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D07-C82C-456A-912E-F6F1F5E0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9AD-9BE9-4C5A-B1D6-0AB5569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C1C-5E4B-4CB1-B41B-90A06E74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94B-822C-4110-AB94-8B9EDFC8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B89-5030-458D-9BFB-D08C9DBB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641-2B4A-45E1-A3AF-B0711DBB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0ED-1B66-4515-ACC4-521C5A47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D44-572D-41CE-A86E-7721E9B9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CCB-B4B7-44D1-A8D3-90F654B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DB3-70F0-401C-AB0D-5A3BF2ED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6B4-1991-447F-8603-23F7D53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E51-C45E-40F8-BDB1-92ACAD5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2BE2-5F87-49F5-9DFC-17A7DB0A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: insulation,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active: stored energy, some hormones,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glyceride: transported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lyceride: used for body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glyceride: stor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fats, oils, and 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+ fatty acid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626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: all bonds are occupied with hydrog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: double bonds leave room for more hydrogen atoms (liquid, health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ation: a process of saturating a lipid to help prevent spoiling, creates “Transfats” (solid, unhealth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when the body converts fatty acids into multiringe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lesterol: body structure, brain development, and fat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 hormones (testosterone, estrogen, progesterone) promote sexual development, affect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7339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Terpe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modified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an important role in fighting disease, includ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A: eyes, skin (eggs, carrots, spin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amin: nerves/heart (vegetables, nu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flavin: skin/tissue repair (fish, green veg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acin: skin (grain, tomato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2: red blood cells (meat, poultry, dai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: Terpen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C: gums, teeth, healing (fru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D: gut, bones, teeth (fish, dai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E: protection (oils, seeds, gr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K: blood clotting (green veg, l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4419720"/>
            <a:ext cx="2685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1431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 elements absorbed by living things from soil, water, 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: bones, teeth, nerves, clotting (dairy, tofu, gre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: growth, blood (meat, grains, green veg, beans,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: fluid balance, nerves (meats, produ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: water balance, nerves (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abundant molecule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ody temperature and transports material in the blood, removes wastes, protects joints/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hemistry: the chemistry of the body’s structures an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: molecules that contain carbon and are found in and produced by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active Molecule: molecules that promote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Molecule: molecules that compose 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c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(pept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organic Molecules important to living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c molecule consisting of C, H, and O in a 1:2:1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sugars: a quick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saccharides: glucose (blood), fructose (fru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ccharides: sucrose (table sugar), lactose (mi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951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carbohydrates: a gradual source of energy,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accharides: glycogen (stored in liver, muscle), starch (potato, grains), cellulose (fiber- seeds, sk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proteins: build and repai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ctive proteins: enzymes (ex. digestion), most hormones (ex. emotions, grow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animals (chicken, meat, fish, eggs) and plants (beans, nu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ins made of building blocks called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0 amino acids, which can be arranged to form thousands of differen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protein contains 27,000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5287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5:13:36Z</dcterms:created>
  <dc:creator>Administrator</dc:creator>
  <dc:description/>
  <dc:language>en-US</dc:language>
  <cp:lastModifiedBy>Administrator</cp:lastModifiedBy>
  <dcterms:modified xsi:type="dcterms:W3CDTF">2010-02-24T19:18:46Z</dcterms:modified>
  <cp:revision>3</cp:revision>
  <dc:subject/>
  <dc:title>Biochemistry</dc:title>
</cp:coreProperties>
</file>